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7621588" cy="5716588"/>
  <p:notesSz cx="7621588" cy="5716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68587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0880" y="3069000"/>
            <a:ext cx="68587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5560" y="13374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0690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895560" y="30690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2208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00000" y="1337400"/>
            <a:ext cx="2208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9120" y="1337400"/>
            <a:ext cx="2208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0880" y="3069000"/>
            <a:ext cx="2208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700000" y="3069000"/>
            <a:ext cx="2208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019120" y="3069000"/>
            <a:ext cx="2208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80880" y="1337400"/>
            <a:ext cx="685872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685872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334692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895560" y="1337400"/>
            <a:ext cx="334692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80880" y="227880"/>
            <a:ext cx="685872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560" y="1337400"/>
            <a:ext cx="334692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80880" y="30690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334692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95560" y="13374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95560" y="30690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95560" y="13374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069000"/>
            <a:ext cx="68587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7960" y="114264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lasmid Vectors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7960" y="2790720"/>
            <a:ext cx="714384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ill Donovan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en Kao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Title 1"/>
          <p:cNvSpPr/>
          <p:nvPr/>
        </p:nvSpPr>
        <p:spPr>
          <a:xfrm>
            <a:off x="312840" y="1905120"/>
            <a:ext cx="7143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And Se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Negative Selection by Antibiotic Resistance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7960" y="1747440"/>
            <a:ext cx="714384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18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Main method of selecting for transformed bacteria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lasmid has an antibiotic resistance gene in addition to gene of interes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ose bacteria that survive on broth with said antibiotic must have taken up plasmid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ositive Selection by Luciferase Activity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7960" y="1685520"/>
            <a:ext cx="714384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1199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Luciferase catalyzes a bioluminescent reaction, making light when provided with luciferin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Luciferase gene included on plasmid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ose bacteria that light up when exposed to luciferin have been transformed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roblem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f ligating DNA into a cut plasmid backbone, not all plasmids with anneal with gene of interes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me will reanneal its own sticky ends together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63" name="Group 26"/>
          <p:cNvGrpSpPr/>
          <p:nvPr/>
        </p:nvGrpSpPr>
        <p:grpSpPr>
          <a:xfrm>
            <a:off x="5670720" y="4421160"/>
            <a:ext cx="914400" cy="914400"/>
            <a:chOff x="5670720" y="4421160"/>
            <a:chExt cx="914400" cy="914400"/>
          </a:xfrm>
        </p:grpSpPr>
        <p:sp>
          <p:nvSpPr>
            <p:cNvPr id="64" name="Oval 12"/>
            <p:cNvSpPr/>
            <p:nvPr/>
          </p:nvSpPr>
          <p:spPr>
            <a:xfrm>
              <a:off x="5670720" y="4421160"/>
              <a:ext cx="914400" cy="91440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Arc 13"/>
            <p:cNvSpPr/>
            <p:nvPr/>
          </p:nvSpPr>
          <p:spPr>
            <a:xfrm>
              <a:off x="5670720" y="4421160"/>
              <a:ext cx="914400" cy="914400"/>
            </a:xfrm>
            <a:prstGeom prst="pie">
              <a:avLst/>
            </a:prstGeom>
            <a:noFill/>
            <a:ln w="76320">
              <a:solidFill>
                <a:srgbClr val="4f81bd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Oval 14"/>
          <p:cNvSpPr/>
          <p:nvPr/>
        </p:nvSpPr>
        <p:spPr>
          <a:xfrm>
            <a:off x="5016600" y="3436920"/>
            <a:ext cx="654120" cy="6336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Group 27"/>
          <p:cNvGrpSpPr/>
          <p:nvPr/>
        </p:nvGrpSpPr>
        <p:grpSpPr>
          <a:xfrm>
            <a:off x="1606680" y="4070160"/>
            <a:ext cx="1528560" cy="1298520"/>
            <a:chOff x="1606680" y="4070160"/>
            <a:chExt cx="1528560" cy="1298520"/>
          </a:xfrm>
        </p:grpSpPr>
        <p:sp>
          <p:nvSpPr>
            <p:cNvPr id="68" name="Freeform 18"/>
            <p:cNvSpPr/>
            <p:nvPr/>
          </p:nvSpPr>
          <p:spPr>
            <a:xfrm>
              <a:off x="1606680" y="4337280"/>
              <a:ext cx="1528560" cy="907920"/>
            </a:xfrm>
            <a:prstGeom prst="pie">
              <a:avLst/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21"/>
            <p:cNvSpPr/>
            <p:nvPr/>
          </p:nvSpPr>
          <p:spPr>
            <a:xfrm flipV="1">
              <a:off x="1716120" y="4070160"/>
              <a:ext cx="142560" cy="446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23"/>
            <p:cNvSpPr/>
            <p:nvPr/>
          </p:nvSpPr>
          <p:spPr>
            <a:xfrm flipH="1" flipV="1">
              <a:off x="3066840" y="5068800"/>
              <a:ext cx="68040" cy="299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Arc 28"/>
          <p:cNvSpPr/>
          <p:nvPr/>
        </p:nvSpPr>
        <p:spPr>
          <a:xfrm>
            <a:off x="2792520" y="3963960"/>
            <a:ext cx="914400" cy="914400"/>
          </a:xfrm>
          <a:prstGeom prst="pie">
            <a:avLst/>
          </a:prstGeom>
          <a:noFill/>
          <a:ln w="7632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Straight Connector 30"/>
          <p:cNvSpPr/>
          <p:nvPr/>
        </p:nvSpPr>
        <p:spPr>
          <a:xfrm flipH="1">
            <a:off x="3730680" y="4414680"/>
            <a:ext cx="1440" cy="235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Straight Connector 32"/>
          <p:cNvSpPr/>
          <p:nvPr/>
        </p:nvSpPr>
        <p:spPr>
          <a:xfrm>
            <a:off x="2963880" y="3990960"/>
            <a:ext cx="39204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Freeform 39"/>
          <p:cNvSpPr/>
          <p:nvPr/>
        </p:nvSpPr>
        <p:spPr>
          <a:xfrm>
            <a:off x="4013280" y="4210200"/>
            <a:ext cx="1160280" cy="446040"/>
          </a:xfrm>
          <a:prstGeom prst="pie">
            <a:avLst/>
          </a:prstGeom>
          <a:noFill/>
          <a:ln w="255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Freeform 40"/>
          <p:cNvSpPr/>
          <p:nvPr/>
        </p:nvSpPr>
        <p:spPr>
          <a:xfrm>
            <a:off x="3967200" y="4624560"/>
            <a:ext cx="1512720" cy="141120"/>
          </a:xfrm>
          <a:prstGeom prst="pie">
            <a:avLst/>
          </a:prstGeom>
          <a:noFill/>
          <a:ln w="25560">
            <a:solidFill>
              <a:srgbClr val="4f81bd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roblem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ells with Gene of interest plasmid as well as plain vanilla plasmid will survive in selective growth medium because both have antibiotic resistance gen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Oval 3"/>
          <p:cNvSpPr/>
          <p:nvPr/>
        </p:nvSpPr>
        <p:spPr>
          <a:xfrm>
            <a:off x="1882800" y="4070520"/>
            <a:ext cx="655560" cy="6318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4081320" y="4070520"/>
            <a:ext cx="914400" cy="914400"/>
            <a:chOff x="4081320" y="4070520"/>
            <a:chExt cx="914400" cy="914400"/>
          </a:xfrm>
        </p:grpSpPr>
        <p:sp>
          <p:nvSpPr>
            <p:cNvPr id="80" name="Oval 5"/>
            <p:cNvSpPr/>
            <p:nvPr/>
          </p:nvSpPr>
          <p:spPr>
            <a:xfrm>
              <a:off x="4081320" y="4070520"/>
              <a:ext cx="914400" cy="91440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Arc 6"/>
            <p:cNvSpPr/>
            <p:nvPr/>
          </p:nvSpPr>
          <p:spPr>
            <a:xfrm>
              <a:off x="4081320" y="4070520"/>
              <a:ext cx="914400" cy="914400"/>
            </a:xfrm>
            <a:prstGeom prst="pie">
              <a:avLst/>
            </a:prstGeom>
            <a:noFill/>
            <a:ln w="76320">
              <a:solidFill>
                <a:srgbClr val="4f81bd"/>
              </a:solidFill>
              <a:round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ositive Selection by LacZ Gene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7960" y="1771200"/>
            <a:ext cx="714384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acZ codes for beta-galactosidase, which will metabolize X-gal into a blue metabolit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mbinatorial selection with antibiotic resistance ensures cell is both transformed and has gene of interes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958680" y="4110120"/>
            <a:ext cx="570240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ositive Selection by Conditional Lethality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7960" y="1755360"/>
            <a:ext cx="714384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601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asmid contains both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barn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(lethal gene)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bars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(its inhibitor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inhibitor,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bars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, protects host from moderate expression of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bar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Bar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lso has a promoter that can be induced by IPTG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duction causes full expression, which is letha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37960" y="203040"/>
            <a:ext cx="714384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Georgia"/>
              </a:rPr>
              <a:t>Barn 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lso has a polylinker sequence for insertion of DNA of interes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rcRect l="11296" t="14602" r="0" b="0"/>
          <a:stretch/>
        </p:blipFill>
        <p:spPr>
          <a:xfrm>
            <a:off x="4578480" y="1278000"/>
            <a:ext cx="2928960" cy="3676680"/>
          </a:xfrm>
          <a:prstGeom prst="rect">
            <a:avLst/>
          </a:prstGeom>
          <a:ln w="0">
            <a:noFill/>
          </a:ln>
        </p:spPr>
      </p:pic>
      <p:sp>
        <p:nvSpPr>
          <p:cNvPr id="89" name="Text Placeholder 2"/>
          <p:cNvSpPr/>
          <p:nvPr/>
        </p:nvSpPr>
        <p:spPr>
          <a:xfrm>
            <a:off x="237960" y="1278000"/>
            <a:ext cx="4340520" cy="36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Insertion of DNA of interest into this region disrupts the </a:t>
            </a:r>
            <a:r>
              <a:rPr b="0" i="1" lang="en-US" sz="3000" spc="-1" strike="noStrike">
                <a:solidFill>
                  <a:srgbClr val="ffffff"/>
                </a:solidFill>
                <a:latin typeface="Georgia"/>
              </a:rPr>
              <a:t>barn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 gene, and its lethality upon administering IPT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itively selects for those cells which have plasmids of inter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41292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DNA Cloning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251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Aft>
                <a:spcPts val="1199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 genome can be broken down into small pieces, each of which can be ligated into a plasmid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 single bacterium takes up each plasmid and then is grown in culture, producing many copies of the plasmid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Result is many copies of a single gene, or a library of bacteria that contain an entire genome together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5249880" y="0"/>
            <a:ext cx="23702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Reference Links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eorgia"/>
              </a:rPr>
              <a:t>NCBI Molecular Cell Biology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Georgia"/>
              </a:rPr>
              <a:t>Miolecular Biotechnology - Memorial University of Newfoundla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Georgia"/>
              </a:rPr>
              <a:t>Yazynin et al. (1987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Broth for LacZ, Amp resistance selection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7960" y="5460840"/>
            <a:ext cx="7143840" cy="1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http://www.molecularstation.com/protocol-links/Microbiology/Antibiotics-Concentration-Media-LB/</a:t>
            </a:r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7" name="Picture 3" descr="Screen shot 2010-02-17 at 8.58.12 PM.png"/>
          <p:cNvPicPr/>
          <p:nvPr/>
        </p:nvPicPr>
        <p:blipFill>
          <a:blip r:embed="rId2"/>
          <a:stretch/>
        </p:blipFill>
        <p:spPr>
          <a:xfrm>
            <a:off x="765000" y="4027320"/>
            <a:ext cx="5764320" cy="1497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Screen shot 2010-02-17 at 8.58.23 PM.png"/>
          <p:cNvPicPr/>
          <p:nvPr/>
        </p:nvPicPr>
        <p:blipFill>
          <a:blip r:embed="rId3"/>
          <a:stretch/>
        </p:blipFill>
        <p:spPr>
          <a:xfrm>
            <a:off x="765000" y="2028960"/>
            <a:ext cx="57643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lasmids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tra-chromosomal DNA molecule separate from chromoso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17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173160" indent="-17316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sually circular and double-stranded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17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173160" indent="-17316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eplicates independently of chromosomal DN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lating Bacteria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4: Spreading bacteria on growth plates (plating) 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tte 50μl of cell mixture onto each plate. The bacteria are very fragile at this stage, so pipette slowly. Carefully spread your cells around using a sterile spreader until liquid has soaked into plate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rt plates, place in tupperware container inside 37°C incubator. Allow cells to grow overnight. Your TA will remove the plates and place them in the refrigerator. Next week you will analyze your results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Testing for Luciferase Activity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88520" indent="-48852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Select colony growing on plate, no satellite colonies</a:t>
            </a:r>
            <a:endParaRPr b="0" lang="en-US" sz="2300" spc="-1" strike="noStrike">
              <a:solidFill>
                <a:srgbClr val="ffffff"/>
              </a:solidFill>
              <a:latin typeface="Georgia"/>
            </a:endParaRPr>
          </a:p>
          <a:p>
            <a:pPr marL="488520" indent="-48852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Use sterile inoculating loop to transfer mass of cells to a tube of LB-amp</a:t>
            </a:r>
            <a:endParaRPr b="0" lang="en-US" sz="2300" spc="-1" strike="noStrike">
              <a:solidFill>
                <a:srgbClr val="ffffff"/>
              </a:solidFill>
              <a:latin typeface="Georgia"/>
            </a:endParaRPr>
          </a:p>
          <a:p>
            <a:pPr marL="488520" indent="-48852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Place tubes in 37ºC shaking water bath overnight</a:t>
            </a:r>
            <a:endParaRPr b="0" lang="en-US" sz="2300" spc="-1" strike="noStrike">
              <a:solidFill>
                <a:srgbClr val="ffffff"/>
              </a:solidFill>
              <a:latin typeface="Georgia"/>
            </a:endParaRPr>
          </a:p>
          <a:p>
            <a:pPr marL="488520" indent="-48852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Transfer 1mL to 1.5mL tube</a:t>
            </a:r>
            <a:endParaRPr b="0" lang="en-US" sz="2300" spc="-1" strike="noStrike">
              <a:solidFill>
                <a:srgbClr val="ffffff"/>
              </a:solidFill>
              <a:latin typeface="Georgia"/>
            </a:endParaRPr>
          </a:p>
          <a:p>
            <a:pPr marL="488520" indent="-48852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Spin for two minutes and pour off supernatant</a:t>
            </a:r>
            <a:endParaRPr b="0" lang="en-US" sz="2300" spc="-1" strike="noStrike">
              <a:solidFill>
                <a:srgbClr val="ffffff"/>
              </a:solidFill>
              <a:latin typeface="Georgia"/>
            </a:endParaRPr>
          </a:p>
          <a:p>
            <a:pPr marL="488520" indent="-48852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Add 10 uL 5X cell lysis buffer to cell pellet</a:t>
            </a:r>
            <a:endParaRPr b="0" lang="en-US" sz="2300" spc="-1" strike="noStrike">
              <a:solidFill>
                <a:srgbClr val="ffffff"/>
              </a:solidFill>
              <a:latin typeface="Georgia"/>
            </a:endParaRPr>
          </a:p>
          <a:p>
            <a:pPr marL="488520" indent="-48852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Add 40 uL distilled water DO NOT MIX</a:t>
            </a:r>
            <a:endParaRPr b="0" lang="en-US" sz="2300" spc="-1" strike="noStrike">
              <a:solidFill>
                <a:srgbClr val="ffffff"/>
              </a:solidFill>
              <a:latin typeface="Georgia"/>
            </a:endParaRPr>
          </a:p>
          <a:p>
            <a:pPr marL="488520" indent="-48852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Add 200 uL luciferin DO NOT MIX</a:t>
            </a:r>
            <a:endParaRPr b="0" lang="en-US" sz="2300" spc="-1" strike="noStrike">
              <a:solidFill>
                <a:srgbClr val="ffffff"/>
              </a:solidFill>
              <a:latin typeface="Georgia"/>
            </a:endParaRPr>
          </a:p>
          <a:p>
            <a:pPr marL="488520" indent="-488520"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eorgia"/>
              </a:rPr>
              <a:t>Vortex tubes rigorously and look for light production</a:t>
            </a:r>
            <a:endParaRPr b="0" lang="en-US" sz="23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37960" y="2477880"/>
            <a:ext cx="71438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62720" indent="-16272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lasmids vary in size, up to 1,000 kbp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162720" indent="-16272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sociated with conjugation in bacteri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162720" indent="-162720"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s ability to conjugate (transmit to new hosts) is deleted in vector plasmid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16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481040" y="566640"/>
            <a:ext cx="40784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37960" y="19008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lasmids may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nfer resistance to antibiotics or poison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ntain genes that code for bacteriotoxin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Enable digestion of unusual substance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urn bacteria into pathogen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Vectors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7960" y="103320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Georgia"/>
              </a:rPr>
              <a:t>Vector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: any agent that can carry DNA into a cell or organism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Georgia"/>
              </a:rPr>
              <a:t>Expression Vector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: carries a gene or DNA into a host cell and directs the synthesis of the encoded protein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Georgia"/>
              </a:rPr>
              <a:t>Cloning Vector</a:t>
            </a: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: autonomously replicating gene element used to carry cDNA or genomic fragment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lasmids as Vectors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ngineered plasmids usually have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rea in which DNA fragments may be inserted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4194000" y="2463840"/>
            <a:ext cx="3187800" cy="2413080"/>
          </a:xfrm>
          <a:prstGeom prst="rect">
            <a:avLst/>
          </a:prstGeom>
          <a:ln w="0">
            <a:noFill/>
          </a:ln>
        </p:spPr>
      </p:pic>
      <p:sp>
        <p:nvSpPr>
          <p:cNvPr id="49" name="Text Placeholder 2"/>
          <p:cNvSpPr/>
          <p:nvPr/>
        </p:nvSpPr>
        <p:spPr>
          <a:xfrm>
            <a:off x="237960" y="1184400"/>
            <a:ext cx="39560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 drug resistance g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 origin of 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asmids used as vectors are usually 1/100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the size of a bacterial chromos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lasmids as Vectors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4143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lasmid vectors also usually contain a polylinker sequence, which contains a copy of many different restriction site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se facilitate insertion of restriction fragment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232160" y="1174680"/>
            <a:ext cx="323388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Positive Selection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960" y="95220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Aft>
                <a:spcPts val="1199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f you fish in a pool with a net of a certain mesh then you positively select fish which are bigger than the mesh size to take hom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sh smaller than the mesh size are not affected, they are NOT negatively selected agains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You have selected what you do wa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Negative Selection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Aft>
                <a:spcPts val="1199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you take the fish you have caught in your net and destroy them, then you have negatively selected against them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y have been removed from the available pool of fish, and so the repertoire of fish in the pool is diminishe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have gotten rid of what you do not want, what remains (possibly) is what you do wan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0:54:46Z</dcterms:created>
  <dc:creator/>
  <dc:description/>
  <dc:language>en-US</dc:language>
  <cp:lastModifiedBy>Will Donovan</cp:lastModifiedBy>
  <dcterms:modified xsi:type="dcterms:W3CDTF">2010-02-18T02:08:24Z</dcterms:modified>
  <cp:revision>9</cp:revision>
  <dc:subject/>
  <dc:title>Plasmid Vectors</dc:title>
</cp:coreProperties>
</file>